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608B-4319-4A84-B202-565AD905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083B-B9FE-40E3-B080-DCE76A3A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073F-B297-4251-A192-679B9C29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505D-6570-4C0D-9A75-B7FD0C6A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1CAC-03A4-4F2B-A139-3C88B065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2051-D26A-497E-835B-84A1BFF6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511E-EE5A-4F30-9C67-4CB373DC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B5A4-4170-420C-AC3E-F1E3C749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C543-AE44-4827-A72F-A4E56475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74B0-2B7D-43F3-9634-9133CBEC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F268-1A92-49EB-A17C-52090F21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EFD-5198-4A3A-A73B-D57246D6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5031-DD98-4754-BC6C-11235B06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29DF-9D14-41FF-94F0-99AC8052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F3A5-8A23-4DA2-9A41-0977B9C9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CD4C-2556-48AF-9166-344E9A2A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1135-E580-499B-AE78-B18450EF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06E9C-B063-4904-B62B-BF92A3E3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A3EBB-D1A0-48F0-88EB-F4D41BF6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405BE-C27B-4F96-B99D-5F36AF2F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44515-1E25-4BF7-9F38-1105A4D4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3FD34-9768-413F-96D4-1F5F2858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2605-2376-45CB-8F20-ED00D811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C49F9-9526-45A7-ACD4-8EE731BF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2182A-D1F0-46AE-87C1-54693963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6DE7B-984E-42A0-8D92-7347A226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ABF06-633F-4B9C-8056-9FBBB2C8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79DCF-1A02-4F86-A1CA-BE1B81E1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AA17A-E555-4A7E-87BF-D8131ECF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E5EDF-3B3D-4138-A9AF-B9895642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BC387-643E-47F7-A695-25691E34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4F070-F675-42FB-86DA-DBB2DA6C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94BB7-2568-42CE-B36E-B4161004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0D1B-932E-4A38-8C2A-CA10D8EF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D6FBC-67CF-4EA5-8D35-374BE828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DFC2A-BAB1-4C63-949B-DFDE633E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A5744-2C68-4F70-97BA-48453379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D9115-E73F-48E5-9DD7-BF22E99F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8A3D6-3B28-4125-B055-D67C29CA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5ABF4-86F9-48F0-A07C-A8E26E93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1B2F9-891F-4072-8816-8B283448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F2E5A-C995-4AF7-A796-359B179A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8ADB2-E591-4D94-8DE0-660F086B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ED35D-D560-4FCE-8875-79E22D8A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0B79-FFCC-44FD-9BB3-650002C8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FB0DC-34A8-46CE-9795-98C31CFE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239B9-0803-4FF2-A1A4-48CAA4A6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8F80C-94E2-4224-84CD-EE8582D9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3506C-3C88-4EBB-90CD-AAE4A4D5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0453A-1E33-4CC6-9AB3-98FDDC4D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B52D2-870F-49BF-B938-96CF51B6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8E47A-18EF-4CF5-A9F8-F6E4EFF0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E83BC-97AB-4ED8-9246-5CFE9B0F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2FC1A-1BB0-463B-B1D8-F5EDB6D8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202AF-FA2C-4385-9F73-FAB3FEFF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6EDE-2326-4ACC-8E92-4DF3ABA8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59F9B-1E49-41C2-BA35-C74A8BED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BEB2F-5923-4CDE-A2B4-3957D44B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D6438-7355-4F69-A93D-18FBB4CC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834A8-73D3-453D-9312-FA49D071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A318E-8AC4-4A79-8321-86B6ED9A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F2DC6-7C4C-4A30-BFE0-2A84052F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498FD-A7C9-4A52-8857-B9D87A1C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179D8-62B4-4771-8CCF-24933ABE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FBF7A-CF54-4048-ADB3-CCD2A031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FF356-7D05-401E-9666-2732E33D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427-2037-45B4-B58C-3C8B89F0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78410-FB7C-4197-AE8B-EBCCB865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0BF03-C605-4AAC-B8BE-7DDBD21A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CD3E3-5A13-4AFA-874A-6181E7E4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240DA-E213-414F-A354-91F03B7C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A80B5-3049-47C0-9807-91AE218B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5805C-A599-4B63-A7C1-AA4419E3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911B5-F97A-47A5-A9C1-3C587735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C086E-A33A-4E92-ACBC-11D9C329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AA7B4-EEC2-45FB-A6AB-9765A5CB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7B313-8198-4B70-B167-2400C7DB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54D3-DB75-4D69-B9DD-73F10F5A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9F689-819D-4F7E-A149-2FB485FC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CD864-A13C-4287-B5D3-C4947908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D5B63-ECF2-4323-8B03-E1564F30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E95E9-96CB-4247-BEF4-1ADC2889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99423-3AC0-49D7-B461-B8CE04FC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6BB71-68C6-4DAF-9444-28A6DE02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25404-87A9-45BE-9B59-D133B71C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ADA09-D99A-4B58-9CF8-128766DE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3FD47-82B0-47DA-BC1F-2CD4B433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8D5D6-5150-4DCE-9A8B-8EBBDCDF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C520-DA08-4813-BDF4-C922A689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61FEC-8C3C-4CE7-93C9-8689F18C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30C77-2015-491A-9046-5C04CA65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3AFA0-3133-49DA-897D-AFFBD6D3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30697-3585-4226-8EEF-61AADF0E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3CD00-1548-4912-9E8B-380F8AB0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BC543-02CF-4FD2-8994-0AC048EB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F350F-4489-4416-992F-2A17B3F3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F001-177A-4960-A2E8-EC02D0F8A30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4CAE-F221-4271-93F3-BE93BA54493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086F-243B-450D-9576-D762A1652354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CA80-530F-46D1-AC96-A565F6F89D3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2AC5-0436-4CE9-8519-75739F1155D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1558-4FE4-46C9-BAE6-DF6E9481EEF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B0A5-4362-4EA4-8B80-C2C704662E8D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E683-CE58-4F2A-B827-572D45AC304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John Knowles’ </a:t>
            </a:r>
            <a:r>
              <a:rPr b="0" i="1" lang="en-US" sz="2900" spc="-1" strike="noStrike">
                <a:solidFill>
                  <a:srgbClr val="000000"/>
                </a:solidFill>
                <a:latin typeface="Bookman Old Style"/>
              </a:rPr>
              <a:t>A Separate Peace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Chapters 1-3 Not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Sophomore Englis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hapter 1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stablishes the narrator’s position of an adult looking back on the incident from his youth with greater wisdom and matur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lthough not officially spoken, his narrative is filled with a mood of dread (“death by violence”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789120" indent="-21924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one to foreshadow the events ahead at the two spo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ne returns as an adult in hopes to see that time has changed Devon and himself from his you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Worries that the school is the same until he sees the tre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789120" indent="-21924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fraid that the passage of time didn’t change the school, and it didn’t change him either – fear that he has not become “better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hapter 1 (Cont.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rrative jumps back to the 1940’s and a younger Ge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The narrative shifts between old Gene and young Gene (makes for an unreliable narrator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We must read through the lines of Gen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ationship between Gene and Finny seems simple yet with darker underton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Finny has control over Gene by making him do things he doesn’t want to do – jump out of the tree; wrestl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Gene is often annoyed at Finny and his characteristic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hapter 2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ne’s envy is developed more ful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Sees his best friend get out of trouble twic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Finds this disappointing (only because he wanted excitement – unreliable narrator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ne seems to admire and resent Finn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lthough Gene cares for him, he is conflicted because he is also enviou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His speech about being “honored” to be Finny’s best friend is forced; he must keep the façade going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Major Conflict:  Man vs. Self - Internal conflict within Gene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hapter 2 (Cont.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though Finny saves Gene’s life, Gene is still conflicted in his feelings towards Finn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Has a difficult time convincing himself that he doesn’t want to see Finny punished or harmed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hy?  Finny likes to show his superiority over other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umping out of the tree firs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etting out of trouble with the faculty at Dev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hapter 3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th create the Super Suicide Society of the Summer Sess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Finny desires to have a society that all can enter into (and he be the leader of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Finny likes competition and enjoys being the best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litzbal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comes from the term “blitzkrieg” meaning “lightning war”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ld War II still in the background of the no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Finny is the best at it although no one wins the games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ymbolizes his attitude on life (there are no winners/loser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hapter 3 (Cont.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haracter Flaws of Gene and Finn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Finny:  worldview focuses on his own desires and does not see what others (like Gene) might want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2" marL="780840" indent="-21708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For instance, Gene is expected to jump from the tree because of Finny’s rule (Finny never asks)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Gene:  unable to say “no” to Finny; thus, Finny never knows how Gene feels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lvl="2" marL="780840" indent="-21708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Stems from a larger problem in that Gene has a difficult time determining his identity (and will almost wish to become Finny)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mmer Session – the last part of innocence in lif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Gill Sans MT"/>
              </a:rPr>
              <a:t>They have the ability to run free in their paradise (like the Garden of Eden); represents the last stages of innocence before Adam and Eve’s fall from innocence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3:46:05Z</dcterms:created>
  <dc:creator>TPS</dc:creator>
  <dc:description/>
  <dc:language>en-US</dc:language>
  <cp:lastModifiedBy>TPS</cp:lastModifiedBy>
  <dcterms:modified xsi:type="dcterms:W3CDTF">2009-04-21T17:12:29Z</dcterms:modified>
  <cp:revision>16</cp:revision>
  <dc:subject/>
  <dc:title>John Knowles’ A Separate Peace Chapters 1-3 Notes</dc:title>
</cp:coreProperties>
</file>